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7A7-12BB-4252-9D39-AD7D8558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37E-712E-46CE-9FFB-C80A8DE7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6CE-BFB4-4750-BC28-CEBA5969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D4E-3E41-4D0A-AD9D-3C4212C5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07D-20F8-4257-8F3D-1B2E077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3E7-BD51-4520-85A2-E21CFC90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D79-BEE1-4FE9-8ECF-6C3BE672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218-9E75-4F30-8055-733A74D4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8F5-A0F2-462C-9551-19989DA9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F2E-112B-4446-BA00-007E65E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1B4-CC0E-4E59-A30D-1DACC6C5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23F-D96B-4857-B098-84B422E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29B7-0F9C-42AB-A0ED-CFF8142E3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9258" t="18521" r="11112" b="12453"/>
          <a:stretch/>
        </p:blipFill>
        <p:spPr>
          <a:xfrm>
            <a:off x="1371600" y="2514600"/>
            <a:ext cx="6553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811" t="20835" r="7811" b="11458"/>
          <a:stretch/>
        </p:blipFill>
        <p:spPr>
          <a:xfrm>
            <a:off x="0" y="4572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9376" t="19791" r="10938" b="12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6858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What is a Wordl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06000">
            <a:off x="1219320" y="28951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ordle is a piece of text which has been rearranged into a visual pattern of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9376" t="33337" r="10938" b="114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811" t="22917" r="8594" b="11458"/>
          <a:stretch/>
        </p:blipFill>
        <p:spPr>
          <a:xfrm>
            <a:off x="0" y="1133640"/>
            <a:ext cx="914400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032" t="18753" r="7811" b="13540"/>
          <a:stretch/>
        </p:blipFill>
        <p:spPr>
          <a:xfrm>
            <a:off x="0" y="87012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8594" t="25004" r="10938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032" t="26042" r="7811" b="10420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7032" t="18753" r="8594" b="13540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8594" t="18753" r="10155" b="114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2:30:26Z</dcterms:created>
  <dc:creator>Patrick J. Mooney</dc:creator>
  <dc:description/>
  <dc:language>en-US</dc:language>
  <cp:lastModifiedBy>Patrick J. Mooney</cp:lastModifiedBy>
  <dcterms:modified xsi:type="dcterms:W3CDTF">2011-03-07T03:21:23Z</dcterms:modified>
  <cp:revision>5</cp:revision>
  <dc:subject/>
  <dc:title>Slide 1</dc:title>
</cp:coreProperties>
</file>